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gif" ContentType="image/gif"/>
  <Override PartName="/ppt/media/image27.jpeg" ContentType="image/jpeg"/>
  <Override PartName="/ppt/media/image6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1.png" ContentType="image/png"/>
  <Override PartName="/ppt/media/image16.png" ContentType="image/pn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7D27-F6F9-433D-93D8-1CDA33E43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B4EB-4EC7-4A93-947C-39BC4DDE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4301-879B-47A2-BAA0-A7EC45051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9180-8A50-4058-AF73-5BE2C4FED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CC90-ADDF-4EE1-9248-D99BA743D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089A-6069-4A00-8ADA-C0670D1C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A71F-AD48-446F-B367-08F9BB8E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D9B1-FCED-4256-A778-501E33E3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0EA6-C096-44D0-A26C-400AC4DC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19F2-59AE-4A08-8C6F-AEA20B85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40A0-1041-4CF3-A3DD-0BA5E094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CE26-D1A9-4C33-A359-E4A572BB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2D24-B607-486D-88F5-167E6ADD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8789-9BC8-47EE-A603-302326D4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A8B9-4C9E-4DB6-A28C-4DAB555D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E9D2-9C53-43E6-9182-C6EC75866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CB26-58DB-4C34-9D84-1027E9F23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FA1BB-C7D4-4422-B7BD-454708271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C097C-6D69-4258-B12F-58468A0B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DC267-A16C-482C-BED1-46CD0E89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B53A6-D366-437E-A21B-AED2656A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127A1-8661-4F8F-B53F-BD0BBC13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4A25-8A4F-4EEF-8D4D-9CEAAF22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80F24-A7FE-48A9-B5DA-4E18F989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31AE4-4CE3-4BB1-85F7-3D0576BF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C2F60-9D6A-4266-B95C-5F2FF2A2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EA105-8EA0-48AD-A076-B61F2B71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F7C2A-CF85-4028-BF01-A4329AFC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B339C-55CF-4024-80C6-97A1CCA4E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DCA97-D611-4629-A5AC-1B94C93BE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FEC4D-7F84-4321-931F-7872EBD7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7B83A-C58F-4856-984A-1519EBFC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17497-F8F6-4E3A-8758-9DC2D394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B8E5-7484-4DA8-8A18-F2ECC7FC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29957-230E-4AD0-BC74-5F85B5C1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6D58F-0E28-4454-B472-E9FA081F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80027-6FDA-4B75-9BD8-7AD27302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D2879-188C-4088-82CF-34877774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E7353-365C-4944-87D2-DC54028C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E462E-38FC-4236-AB46-6D598F5D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CCB4C-7B65-4E77-B386-DA4DCF06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13679-9402-4C31-94BE-A7DA47D8E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4092A-7179-464D-8000-1800363DF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B0D97-0257-4E1F-8693-13EE41B84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6659-894E-4973-9B53-74850083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D7B98-A7F8-49CC-A5C5-7FD4AB1A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CC4F7-F14A-4493-960C-17BB945F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5C082-8DAE-4674-ABCE-50713B8C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AEA9A-CF44-49D1-8932-3D16FEE0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E2DEE-3453-49CE-9395-83D5318C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10A78-04CA-4A76-9C49-FC48DDAC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D40E2-CCF2-4DC0-ADC4-7EAD6D40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E462C-A6D3-4D42-B389-B5226847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A9C40-A7D6-4E66-8CD3-F3A1642A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FC21A-1C9D-422D-AEA3-81DBD9ADA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CC6C-0923-486E-96F0-5537C532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64996-4325-4770-B8AC-03F54344A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9A3D3-00C5-49C8-BF91-0A238C054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41C9A-C8C1-4228-9457-B4A5B98E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C10A4-AB54-400B-AAA9-9B49972F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813BA-444F-40C2-A659-3A3C4644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9E3ED-75FD-478E-B6B5-C36AD9E0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11C37-0B59-405C-AAEA-7281F357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CBB48-5F88-4C2A-A10F-8E5367B9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CF99B-577F-4A3F-81EF-3B0CEC61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579E4-946A-42E5-ABD4-BFB5F025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C781-6564-4D96-9835-A91280D7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ABD6C-4C34-4B44-9B0A-0CB6D4AA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AB34B-F25D-47B1-B43C-869555A45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66EA3-BAFA-49C0-9DAD-4C551892B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693EC-F948-4DB0-8A13-C9F4078BC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AC53C-9759-4BD1-B993-9E2059EE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A23C2-C8A7-4AFA-B989-540827E1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2E3AC-9267-4C14-85CC-B15BF952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68177-DA90-45D5-B58E-6F7B98C1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72086-F42B-4C07-99E4-E8459097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90CF2-4C73-49AB-B0F8-74D80E70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C57B-F132-410D-8B5D-E15E9BA0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54078-76AC-4287-9ECB-E210C150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A0DA8-B79B-4793-B22E-E3C30177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D440E-016D-4EEB-A8E8-CD3465E4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5D569-DB96-49C3-A57B-BECB171C1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BCB80-585D-4B45-B87B-294ADCA8C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BBDD-D216-4E59-96C0-596B92E1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017E-F8E9-4602-8391-62DE105A7A5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A4D2-9D1E-494E-9B7B-EFE0349CAC6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95BC-2D0D-4C63-973D-DE30F87F33A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BB19-8764-47CE-9D2C-430ADDB3171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03E6-F6B1-47D1-8D70-404B8D539DE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EB12-CF29-42C2-8785-E2818ED39DD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158E-1475-40AA-90D4-DB2EDF4BA7B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cward.co.uk/wp-content/uploads/2009/07/happy-face.pn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graphicsarcade.com/comments/good_luck/good_luck_comment_graphic_04.gif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spmg.photobucket.com/albums/v127/morganmay/good_morning_SUN.gif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378000" y="1646280"/>
            <a:ext cx="801036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Corbel"/>
              </a:rPr>
              <a:t>Capítulo 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0" name="Picture 2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335268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How are you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rbel"/>
              </a:rPr>
              <a:t>¿Cómo estás?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AutoShape 2"/>
          <p:cNvSpPr/>
          <p:nvPr/>
        </p:nvSpPr>
        <p:spPr>
          <a:xfrm>
            <a:off x="63360" y="-136440"/>
            <a:ext cx="166716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AutoShape 4"/>
          <p:cNvSpPr/>
          <p:nvPr/>
        </p:nvSpPr>
        <p:spPr>
          <a:xfrm>
            <a:off x="63360" y="-136440"/>
            <a:ext cx="166716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4" name="AutoShape 8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5" name="Picture 7" descr="high school graduation.jpg"/>
          <p:cNvPicPr/>
          <p:nvPr/>
        </p:nvPicPr>
        <p:blipFill>
          <a:blip r:embed="rId1"/>
          <a:stretch/>
        </p:blipFill>
        <p:spPr>
          <a:xfrm>
            <a:off x="3200400" y="2400480"/>
            <a:ext cx="59436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How are you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4560" y="1371240"/>
            <a:ext cx="830556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600" spc="-1" strike="noStrike">
                <a:solidFill>
                  <a:srgbClr val="ffffff"/>
                </a:solidFill>
                <a:latin typeface="Corbel"/>
              </a:rPr>
              <a:t>¿Qué tal?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8" name="Picture 2" descr="http://media.highschoolplaybook.com/networks/Centralflorida/images/blog_album_photos/146100/Finneytown%20High%20School%20Hallway%20Scene%20(Large)%20(Small)_original120200.jpg"/>
          <p:cNvPicPr/>
          <p:nvPr/>
        </p:nvPicPr>
        <p:blipFill>
          <a:blip r:embed="rId1"/>
          <a:stretch/>
        </p:blipFill>
        <p:spPr>
          <a:xfrm>
            <a:off x="2819520" y="2286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http://www.andrew.cmu.edu/user/heeyeons/smile.jpg"/>
          <p:cNvPicPr/>
          <p:nvPr/>
        </p:nvPicPr>
        <p:blipFill>
          <a:blip r:embed="rId2"/>
          <a:stretch/>
        </p:blipFill>
        <p:spPr>
          <a:xfrm>
            <a:off x="0" y="2362320"/>
            <a:ext cx="3143160" cy="31431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http://edubuzz.org/blogs/stgabriels/files/2008/12/sad-face.jpg"/>
          <p:cNvPicPr/>
          <p:nvPr/>
        </p:nvPicPr>
        <p:blipFill>
          <a:blip r:embed="rId3"/>
          <a:stretch/>
        </p:blipFill>
        <p:spPr>
          <a:xfrm>
            <a:off x="6286680" y="327672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413" name="Oval Callout 6"/>
          <p:cNvSpPr/>
          <p:nvPr/>
        </p:nvSpPr>
        <p:spPr>
          <a:xfrm>
            <a:off x="2438280" y="1143000"/>
            <a:ext cx="2286000" cy="24382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¿Cómo estás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Flowchart: Sequential Access Storage 7"/>
          <p:cNvSpPr/>
          <p:nvPr/>
        </p:nvSpPr>
        <p:spPr>
          <a:xfrm>
            <a:off x="3733920" y="2666880"/>
            <a:ext cx="2743200" cy="2362320"/>
          </a:xfrm>
          <a:prstGeom prst="flowChartMagneticTape">
            <a:avLst/>
          </a:prstGeom>
          <a:solidFill>
            <a:srgbClr val="51daff"/>
          </a:solidFill>
          <a:ln w="19080">
            <a:solidFill>
              <a:srgbClr val="8b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Mal, ¿y tú?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Oval Callout 8"/>
          <p:cNvSpPr/>
          <p:nvPr/>
        </p:nvSpPr>
        <p:spPr>
          <a:xfrm>
            <a:off x="2057400" y="4114800"/>
            <a:ext cx="2362320" cy="2286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Bien, gracias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http://www.andrew.cmu.edu/user/heeyeons/smile.jpg"/>
          <p:cNvPicPr/>
          <p:nvPr/>
        </p:nvPicPr>
        <p:blipFill>
          <a:blip r:embed="rId1"/>
          <a:stretch/>
        </p:blipFill>
        <p:spPr>
          <a:xfrm>
            <a:off x="0" y="0"/>
            <a:ext cx="4286160" cy="428616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Bien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Así Así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a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914040" y="6095880"/>
            <a:ext cx="205740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9" name="Picture 2" descr="http://www.clker.com/cliparts/9/8/0/0/119498645176821905smiley003.svg.med.png"/>
          <p:cNvPicPr/>
          <p:nvPr/>
        </p:nvPicPr>
        <p:blipFill>
          <a:blip r:embed="rId2"/>
          <a:stretch/>
        </p:blipFill>
        <p:spPr>
          <a:xfrm>
            <a:off x="3505320" y="1447920"/>
            <a:ext cx="2828880" cy="28382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http://edubuzz.org/blogs/stgabriels/files/2008/12/sad-face.jpg"/>
          <p:cNvPicPr/>
          <p:nvPr/>
        </p:nvPicPr>
        <p:blipFill>
          <a:blip r:embed="rId3"/>
          <a:stretch/>
        </p:blipFill>
        <p:spPr>
          <a:xfrm>
            <a:off x="6286680" y="400068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O YOU SPEAK SPANISH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http://www.andrew.cmu.edu/user/heeyeons/smile.jpg"/>
          <p:cNvPicPr/>
          <p:nvPr/>
        </p:nvPicPr>
        <p:blipFill>
          <a:blip r:embed="rId2"/>
          <a:stretch/>
        </p:blipFill>
        <p:spPr>
          <a:xfrm>
            <a:off x="0" y="2362320"/>
            <a:ext cx="3143160" cy="31431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http://edubuzz.org/blogs/stgabriels/files/2008/12/sad-face.jpg"/>
          <p:cNvPicPr/>
          <p:nvPr/>
        </p:nvPicPr>
        <p:blipFill>
          <a:blip r:embed="rId3"/>
          <a:stretch/>
        </p:blipFill>
        <p:spPr>
          <a:xfrm>
            <a:off x="6286680" y="400068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425" name="Oval Callout 6"/>
          <p:cNvSpPr/>
          <p:nvPr/>
        </p:nvSpPr>
        <p:spPr>
          <a:xfrm>
            <a:off x="5943600" y="228600"/>
            <a:ext cx="2743200" cy="24382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¿Hablas español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Flowchart: Sequential Access Storage 7"/>
          <p:cNvSpPr/>
          <p:nvPr/>
        </p:nvSpPr>
        <p:spPr>
          <a:xfrm>
            <a:off x="3733920" y="3505320"/>
            <a:ext cx="2743200" cy="2361960"/>
          </a:xfrm>
          <a:prstGeom prst="flowChartMagneticTape">
            <a:avLst/>
          </a:prstGeom>
          <a:solidFill>
            <a:srgbClr val="51daff"/>
          </a:solidFill>
          <a:ln w="19080">
            <a:solidFill>
              <a:srgbClr val="8b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No, no hablo español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Oval Callout 8"/>
          <p:cNvSpPr/>
          <p:nvPr/>
        </p:nvSpPr>
        <p:spPr>
          <a:xfrm>
            <a:off x="2362320" y="1828800"/>
            <a:ext cx="2666880" cy="2286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íSi!  Hablo español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28" name="Picture 2" descr="http://dusan.fora.si/works/birdy.png"/>
          <p:cNvPicPr/>
          <p:nvPr/>
        </p:nvPicPr>
        <p:blipFill>
          <a:blip r:embed="rId4"/>
          <a:stretch/>
        </p:blipFill>
        <p:spPr>
          <a:xfrm>
            <a:off x="6858000" y="2743200"/>
            <a:ext cx="11685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77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770" fill="hold"/>
                                        <p:tgtEl>
                                          <p:spTgt spid="4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7" dur="77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8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1eeff"/>
                </a:solidFill>
                <a:latin typeface="Consolas"/>
              </a:rPr>
              <a:t>¿Cómo se dice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…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orbel"/>
              </a:rPr>
              <a:t>Japanese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orbel"/>
              </a:rPr>
              <a:t>El japoné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orbel"/>
              </a:rPr>
              <a:t>Arabic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orbel"/>
              </a:rPr>
              <a:t>El árab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orbel"/>
              </a:rPr>
              <a:t>Portuguese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orbel"/>
              </a:rPr>
              <a:t>El portugué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orbel"/>
              </a:rPr>
              <a:t>Russian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orbel"/>
              </a:rPr>
              <a:t>El ruso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1" name="Picture 2" descr="http://www.allaboutbipolar.com/wp-content/uploads/2009/07/japanese-flag_0-300x239.jpg"/>
          <p:cNvPicPr/>
          <p:nvPr/>
        </p:nvPicPr>
        <p:blipFill>
          <a:blip r:embed="rId1"/>
          <a:stretch/>
        </p:blipFill>
        <p:spPr>
          <a:xfrm>
            <a:off x="4648320" y="3276720"/>
            <a:ext cx="44956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1eeff"/>
                </a:solidFill>
                <a:latin typeface="Consolas"/>
              </a:rPr>
              <a:t>¿Cómo se dice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…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533520" y="1371240"/>
            <a:ext cx="815328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orbel"/>
              </a:rPr>
              <a:t>French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orbel"/>
              </a:rPr>
              <a:t>El francé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orbel"/>
              </a:rPr>
              <a:t>English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orbel"/>
              </a:rPr>
              <a:t>El inglé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orbel"/>
              </a:rPr>
              <a:t>Chinese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orbel"/>
              </a:rPr>
              <a:t>El chino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orbel"/>
              </a:rPr>
              <a:t>German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orbel"/>
              </a:rPr>
              <a:t>El alemán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4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6" name="Picture 5" descr="german flag.jpg"/>
          <p:cNvPicPr/>
          <p:nvPr/>
        </p:nvPicPr>
        <p:blipFill>
          <a:blip r:embed="rId1"/>
          <a:stretch/>
        </p:blipFill>
        <p:spPr>
          <a:xfrm>
            <a:off x="3048120" y="1990800"/>
            <a:ext cx="60958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c1eeff"/>
                </a:solidFill>
                <a:latin typeface="Consolas"/>
              </a:rPr>
              <a:t>¿Cómo se dice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… 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good-bye?</a:t>
            </a:r>
            <a:endParaRPr b="0" lang="en-US" sz="6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rbel"/>
              </a:rPr>
              <a:t>¡</a:t>
            </a:r>
            <a:r>
              <a:rPr b="0" lang="es-ES_tradnl" sz="6000" spc="-1" strike="noStrike">
                <a:solidFill>
                  <a:srgbClr val="ffffff"/>
                </a:solidFill>
                <a:latin typeface="Corbel"/>
              </a:rPr>
              <a:t>Adiós</a:t>
            </a:r>
            <a:r>
              <a:rPr b="0" lang="en-US" sz="6000" spc="-1" strike="noStrike">
                <a:solidFill>
                  <a:srgbClr val="ffffff"/>
                </a:solidFill>
                <a:latin typeface="Corbel"/>
              </a:rPr>
              <a:t>!</a:t>
            </a: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9" name="Picture 2" descr="http://www.ssqq.com/stories/images/goodbye%20farewell.jpg"/>
          <p:cNvPicPr/>
          <p:nvPr/>
        </p:nvPicPr>
        <p:blipFill>
          <a:blip r:embed="rId1"/>
          <a:stretch/>
        </p:blipFill>
        <p:spPr>
          <a:xfrm>
            <a:off x="5181480" y="2057400"/>
            <a:ext cx="3962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c1eeff"/>
                </a:solidFill>
                <a:latin typeface="Consolas"/>
              </a:rPr>
              <a:t>¿Cómo se dice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… 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See you tomorrow?</a:t>
            </a:r>
            <a:endParaRPr b="0" lang="en-US" sz="6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15228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rbel"/>
              </a:rPr>
              <a:t>¡</a:t>
            </a:r>
            <a:r>
              <a:rPr b="0" lang="es-ES_tradnl" sz="6000" spc="-1" strike="noStrike">
                <a:solidFill>
                  <a:srgbClr val="ffffff"/>
                </a:solidFill>
                <a:latin typeface="Corbel"/>
              </a:rPr>
              <a:t>Hasta mañana</a:t>
            </a:r>
            <a:r>
              <a:rPr b="0" lang="en-US" sz="6000" spc="-1" strike="noStrike">
                <a:solidFill>
                  <a:srgbClr val="ffffff"/>
                </a:solidFill>
                <a:latin typeface="Corbel"/>
              </a:rPr>
              <a:t>!</a:t>
            </a: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2" name="Picture 2" descr="http://mookseandgripes.com/reviews/wp-content/uploads/2009/07/So-Long-See-You-Tomorrow.jpg"/>
          <p:cNvPicPr/>
          <p:nvPr/>
        </p:nvPicPr>
        <p:blipFill>
          <a:blip r:embed="rId1"/>
          <a:stretch/>
        </p:blipFill>
        <p:spPr>
          <a:xfrm>
            <a:off x="5987880" y="1981080"/>
            <a:ext cx="3156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c1eeff"/>
                </a:solidFill>
                <a:latin typeface="Consolas"/>
              </a:rPr>
              <a:t>¿Cómo se dice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… 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See you later?</a:t>
            </a:r>
            <a:endParaRPr b="0" lang="en-US" sz="6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51920" y="17845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rbel"/>
              </a:rPr>
              <a:t>¡</a:t>
            </a:r>
            <a:r>
              <a:rPr b="0" lang="es-ES_tradnl" sz="6000" spc="-1" strike="noStrike">
                <a:solidFill>
                  <a:srgbClr val="ffffff"/>
                </a:solidFill>
                <a:latin typeface="Corbel"/>
              </a:rPr>
              <a:t>Hasta luego</a:t>
            </a:r>
            <a:r>
              <a:rPr b="0" lang="en-US" sz="6000" spc="-1" strike="noStrike">
                <a:solidFill>
                  <a:srgbClr val="ffffff"/>
                </a:solidFill>
                <a:latin typeface="Corbel"/>
              </a:rPr>
              <a:t>!</a:t>
            </a: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5" name="Picture 2" descr="http://www.mchenrycountyblog.com/uploaded_images/Swimming-Cap-See-you-later-alligator-797421.jpg"/>
          <p:cNvPicPr/>
          <p:nvPr/>
        </p:nvPicPr>
        <p:blipFill>
          <a:blip r:embed="rId1"/>
          <a:stretch/>
        </p:blipFill>
        <p:spPr>
          <a:xfrm>
            <a:off x="5022720" y="3200400"/>
            <a:ext cx="4121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c1eeff"/>
                </a:solidFill>
                <a:latin typeface="Consolas"/>
              </a:rPr>
              <a:t>¿Cómo se dice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… 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hello</a:t>
            </a:r>
            <a:endParaRPr b="0" lang="en-US" sz="6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rbel"/>
              </a:rPr>
              <a:t>A un amigo…?</a:t>
            </a: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rbel"/>
              </a:rPr>
              <a:t>¡HOLA!</a:t>
            </a: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3" name="Picture 2" descr="Child Waving"/>
          <p:cNvPicPr/>
          <p:nvPr/>
        </p:nvPicPr>
        <p:blipFill>
          <a:blip r:embed="rId1"/>
          <a:stretch/>
        </p:blipFill>
        <p:spPr>
          <a:xfrm>
            <a:off x="5791320" y="3170160"/>
            <a:ext cx="335268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Be polite!!!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80880" y="1219320"/>
            <a:ext cx="830592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Please=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Por favor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Thank you=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Gracia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Excuse me=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Perdón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I’m sorry=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Lo siento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8" name="Picture 2" descr="http://rlv.zcache.com/say_please_and_thank_you_mousepad-p144415913945690064trak_400.jpg"/>
          <p:cNvPicPr/>
          <p:nvPr/>
        </p:nvPicPr>
        <p:blipFill>
          <a:blip r:embed="rId1"/>
          <a:stretch/>
        </p:blipFill>
        <p:spPr>
          <a:xfrm>
            <a:off x="5105520" y="83808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4" descr="http://tickledbylife.com/site/wp-content/uploads/2008/10/burp.gif"/>
          <p:cNvPicPr/>
          <p:nvPr/>
        </p:nvPicPr>
        <p:blipFill>
          <a:blip r:embed="rId2"/>
          <a:stretch/>
        </p:blipFill>
        <p:spPr>
          <a:xfrm>
            <a:off x="4857840" y="2514600"/>
            <a:ext cx="4286160" cy="43434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6" descr="http://www.xcomment.com/g2/img/ImSorry090207042645.gif"/>
          <p:cNvPicPr/>
          <p:nvPr/>
        </p:nvPicPr>
        <p:blipFill>
          <a:blip r:embed="rId3"/>
          <a:stretch/>
        </p:blipFill>
        <p:spPr>
          <a:xfrm>
            <a:off x="3886200" y="1365120"/>
            <a:ext cx="5257800" cy="42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77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1" dur="770" fill="hold"/>
                                        <p:tgtEl>
                                          <p:spTgt spid="4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3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5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4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Buena suerte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52" name="Picture 2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70160" y="2133720"/>
            <a:ext cx="5668920" cy="4724280"/>
          </a:xfrm>
          <a:prstGeom prst="rect">
            <a:avLst/>
          </a:prstGeom>
          <a:ln w="0">
            <a:noFill/>
          </a:ln>
        </p:spPr>
      </p:pic>
      <p:sp>
        <p:nvSpPr>
          <p:cNvPr id="453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54" name="Content Placeholder 5" descr="froggy.bmp"/>
          <p:cNvPicPr/>
          <p:nvPr/>
        </p:nvPicPr>
        <p:blipFill>
          <a:blip r:embed="rId3"/>
          <a:stretch/>
        </p:blipFill>
        <p:spPr>
          <a:xfrm>
            <a:off x="685800" y="1371600"/>
            <a:ext cx="5391000" cy="44928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6" descr="http://www.spanish-fiestas.com/salamanca/images/salamanca-university-facade.jpg"/>
          <p:cNvPicPr/>
          <p:nvPr/>
        </p:nvPicPr>
        <p:blipFill>
          <a:blip r:embed="rId4"/>
          <a:stretch/>
        </p:blipFill>
        <p:spPr>
          <a:xfrm>
            <a:off x="0" y="0"/>
            <a:ext cx="4876920" cy="67546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8" descr="http://farm4.static.flickr.com/3061/2461814699_bf38587f9e.jpg"/>
          <p:cNvPicPr/>
          <p:nvPr/>
        </p:nvPicPr>
        <p:blipFill>
          <a:blip r:embed="rId5"/>
          <a:stretch/>
        </p:blipFill>
        <p:spPr>
          <a:xfrm>
            <a:off x="2971800" y="0"/>
            <a:ext cx="6172200" cy="6811920"/>
          </a:xfrm>
          <a:prstGeom prst="rect">
            <a:avLst/>
          </a:prstGeom>
          <a:ln w="0">
            <a:noFill/>
          </a:ln>
        </p:spPr>
      </p:pic>
      <p:sp>
        <p:nvSpPr>
          <p:cNvPr id="457" name="Donut 8"/>
          <p:cNvSpPr/>
          <p:nvPr/>
        </p:nvSpPr>
        <p:spPr>
          <a:xfrm>
            <a:off x="2895480" y="2666880"/>
            <a:ext cx="1371600" cy="121932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78560 h 1219320"/>
              <a:gd name="textAreaBottom" fmla="*/ 1040760 h 1219320"/>
            </a:gdLst>
            <a:ahLst/>
            <a:rect l="textAreaLeft" t="textAreaTop" r="textAreaRight" b="textAreaBottom"/>
            <a:pathLst>
              <a:path w="1371600" h="1219200">
                <a:moveTo>
                  <a:pt x="0" y="609600"/>
                </a:moveTo>
                <a:lnTo>
                  <a:pt x="0" y="609600"/>
                </a:lnTo>
                <a:arcTo wR="685800" hR="609600" stAng="-10799995" swAng="5400001"/>
                <a:lnTo>
                  <a:pt x="685801" y="1"/>
                </a:lnTo>
                <a:arcTo wR="685800" hR="609600" stAng="-5399994" swAng="5399999"/>
                <a:lnTo>
                  <a:pt x="1371600" y="609602"/>
                </a:lnTo>
                <a:arcTo wR="685800" hR="609600" stAng="0" swAng="5400000"/>
                <a:lnTo>
                  <a:pt x="685800" y="1219202"/>
                </a:lnTo>
                <a:arcTo wR="685800" hR="609600" stAng="5400000" swAng="5400005"/>
                <a:close/>
                <a:moveTo>
                  <a:pt x="304800" y="609600"/>
                </a:moveTo>
                <a:lnTo>
                  <a:pt x="304800" y="609600"/>
                </a:lnTo>
                <a:arcTo wR="381000" hR="304800" stAng="10800000" swAng="-5400000"/>
                <a:lnTo>
                  <a:pt x="685800" y="914400"/>
                </a:lnTo>
                <a:arcTo wR="381000" hR="304800" stAng="5400000" swAng="-5400000"/>
                <a:lnTo>
                  <a:pt x="1066800" y="609600"/>
                </a:lnTo>
                <a:arcTo wR="381000" hR="304800" stAng="0" swAng="-5400000"/>
                <a:lnTo>
                  <a:pt x="685800" y="304800"/>
                </a:lnTo>
                <a:arcTo wR="381000" hR="304800" stAng="-5400000" swAng="-5400000"/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58" name="Picture 10" descr="http://www.lonelyplanet.com/maps/europe/spain/map_of_spain.jpg"/>
          <p:cNvPicPr/>
          <p:nvPr/>
        </p:nvPicPr>
        <p:blipFill>
          <a:blip r:embed="rId6"/>
          <a:stretch/>
        </p:blipFill>
        <p:spPr>
          <a:xfrm>
            <a:off x="0" y="0"/>
            <a:ext cx="8553600" cy="6424560"/>
          </a:xfrm>
          <a:prstGeom prst="rect">
            <a:avLst/>
          </a:prstGeom>
          <a:ln w="0">
            <a:noFill/>
          </a:ln>
        </p:spPr>
      </p:pic>
      <p:sp>
        <p:nvSpPr>
          <p:cNvPr id="459" name="4-Point Star 10"/>
          <p:cNvSpPr/>
          <p:nvPr/>
        </p:nvSpPr>
        <p:spPr>
          <a:xfrm>
            <a:off x="3276720" y="2590920"/>
            <a:ext cx="1218960" cy="1066680"/>
          </a:xfrm>
          <a:custGeom>
            <a:avLst/>
            <a:gdLst>
              <a:gd name="textAreaLeft" fmla="*/ 502200 w 1218960"/>
              <a:gd name="textAreaRight" fmla="*/ 716760 w 1218960"/>
              <a:gd name="textAreaTop" fmla="*/ 439560 h 1066680"/>
              <a:gd name="textAreaBottom" fmla="*/ 6271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4-Point Star 11"/>
          <p:cNvSpPr/>
          <p:nvPr/>
        </p:nvSpPr>
        <p:spPr>
          <a:xfrm>
            <a:off x="2057400" y="2057400"/>
            <a:ext cx="1219320" cy="1066680"/>
          </a:xfrm>
          <a:custGeom>
            <a:avLst/>
            <a:gdLst>
              <a:gd name="textAreaLeft" fmla="*/ 502200 w 1219320"/>
              <a:gd name="textAreaRight" fmla="*/ 717120 w 1219320"/>
              <a:gd name="textAreaTop" fmla="*/ 439560 h 1066680"/>
              <a:gd name="textAreaBottom" fmla="*/ 6271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8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8" dur="5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1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3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5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0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2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4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6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¡</a:t>
            </a:r>
            <a:r>
              <a:rPr b="0" lang="es-ES_tradnl" sz="4000" spc="-1" strike="noStrike">
                <a:solidFill>
                  <a:srgbClr val="c1eeff"/>
                </a:solidFill>
                <a:latin typeface="Consolas"/>
              </a:rPr>
              <a:t>Hasta la vista,</a:t>
            </a:r>
            <a:br>
              <a:rPr sz="4000"/>
            </a:br>
            <a:r>
              <a:rPr b="0" lang="es-ES_tradnl" sz="40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es-ES_tradnl" sz="4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s-ES_tradnl" sz="4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s-ES_tradnl" sz="4000" spc="-1" strike="noStrike">
                <a:solidFill>
                  <a:srgbClr val="c1eeff"/>
                </a:solidFill>
                <a:latin typeface="Consolas"/>
              </a:rPr>
              <a:t>baby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!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2" descr="http://www.cyber-cinema.com/gallery/Terminator2.jpg"/>
          <p:cNvPicPr/>
          <p:nvPr/>
        </p:nvPicPr>
        <p:blipFill>
          <a:blip r:embed="rId2"/>
          <a:stretch/>
        </p:blipFill>
        <p:spPr>
          <a:xfrm>
            <a:off x="4923000" y="0"/>
            <a:ext cx="4221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c1eeff"/>
                </a:solidFill>
                <a:latin typeface="Consolas"/>
              </a:rPr>
              <a:t>¿Cómo se dice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… 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hello</a:t>
            </a:r>
            <a:endParaRPr b="0" lang="en-US" sz="6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rbel"/>
              </a:rPr>
              <a:t>A las 8:00 a.m.?</a:t>
            </a: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Corbel"/>
              </a:rPr>
              <a:t>¡ Buenos días!</a:t>
            </a: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6" name="Picture 2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2971800"/>
            <a:ext cx="25606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c1eeff"/>
                </a:solidFill>
                <a:latin typeface="Consolas"/>
              </a:rPr>
              <a:t>¿Cómo se dice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… 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hello</a:t>
            </a:r>
            <a:endParaRPr b="0" lang="en-US" sz="6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0492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A la 1:00 p.m.?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Corbel"/>
              </a:rPr>
              <a:t>¡ Buenas tardes!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9" name="Picture 2" descr="http://image20.webshots.com/20/1/0/12/197510012AifHTc_fs.jpg"/>
          <p:cNvPicPr/>
          <p:nvPr/>
        </p:nvPicPr>
        <p:blipFill>
          <a:blip r:embed="rId1"/>
          <a:stretch/>
        </p:blipFill>
        <p:spPr>
          <a:xfrm>
            <a:off x="5315040" y="1752480"/>
            <a:ext cx="3828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c1eeff"/>
                </a:solidFill>
                <a:latin typeface="Consolas"/>
              </a:rPr>
              <a:t>¿Cómo se dice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… 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hello</a:t>
            </a:r>
            <a:endParaRPr b="0" lang="en-US" sz="6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0492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A las 9:00 p.m.?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Corbel"/>
              </a:rPr>
              <a:t>¡ Buenas noches!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2" name="Picture 2" descr="http://apod.nasa.gov/apod/image/0709/saguaroMoon_seip.jpg"/>
          <p:cNvPicPr/>
          <p:nvPr/>
        </p:nvPicPr>
        <p:blipFill>
          <a:blip r:embed="rId1"/>
          <a:stretch/>
        </p:blipFill>
        <p:spPr>
          <a:xfrm>
            <a:off x="5257800" y="1905120"/>
            <a:ext cx="37479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What is your name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Corbel"/>
              </a:rPr>
              <a:t>¿Cómo te llamas?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5" name="Picture 2" descr="http://www.namebadgesplus.org/images/name_tag_1.jpg"/>
          <p:cNvPicPr/>
          <p:nvPr/>
        </p:nvPicPr>
        <p:blipFill>
          <a:blip r:embed="rId1"/>
          <a:stretch/>
        </p:blipFill>
        <p:spPr>
          <a:xfrm>
            <a:off x="5494320" y="1371600"/>
            <a:ext cx="3649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http://www.namebadgesplus.org/images/name_tag_1.jpg"/>
          <p:cNvPicPr/>
          <p:nvPr/>
        </p:nvPicPr>
        <p:blipFill>
          <a:blip r:embed="rId2"/>
          <a:stretch/>
        </p:blipFill>
        <p:spPr>
          <a:xfrm>
            <a:off x="0" y="557280"/>
            <a:ext cx="4191120" cy="630072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4"/>
          <p:cNvSpPr/>
          <p:nvPr/>
        </p:nvSpPr>
        <p:spPr>
          <a:xfrm>
            <a:off x="1460160" y="594360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rbel"/>
              </a:rPr>
              <a:t>María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3011400" y="3809880"/>
            <a:ext cx="1119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Nacho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Oval Callout 6"/>
          <p:cNvSpPr/>
          <p:nvPr/>
        </p:nvSpPr>
        <p:spPr>
          <a:xfrm>
            <a:off x="1066680" y="304920"/>
            <a:ext cx="4343400" cy="27432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orbel"/>
              </a:rPr>
              <a:t>Me llamo María.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Oval Callout 7"/>
          <p:cNvSpPr/>
          <p:nvPr/>
        </p:nvSpPr>
        <p:spPr>
          <a:xfrm>
            <a:off x="3200400" y="0"/>
            <a:ext cx="4343400" cy="27432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orbel"/>
              </a:rPr>
              <a:t>Me llamo Nacho.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7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“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os besos”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28240" y="1143000"/>
            <a:ext cx="8458200" cy="52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Mucho gusto.”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Encantado.”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Encantada.”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5" name="Picture 2" descr="http://internaldrive.com/wp-content/uploads/2007/07/windowslivewriterspaingroup2arrives-5fcddosbesos1.jpg"/>
          <p:cNvPicPr/>
          <p:nvPr/>
        </p:nvPicPr>
        <p:blipFill>
          <a:blip r:embed="rId1"/>
          <a:stretch/>
        </p:blipFill>
        <p:spPr>
          <a:xfrm>
            <a:off x="3733920" y="3254400"/>
            <a:ext cx="541008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How are you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7" name="Content Placeholder 3" descr="Dr__McGill.jpg"/>
          <p:cNvPicPr/>
          <p:nvPr/>
        </p:nvPicPr>
        <p:blipFill>
          <a:blip r:embed="rId1"/>
          <a:stretch/>
        </p:blipFill>
        <p:spPr>
          <a:xfrm>
            <a:off x="5086440" y="1447920"/>
            <a:ext cx="4057560" cy="541008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4"/>
          <p:cNvSpPr/>
          <p:nvPr/>
        </p:nvSpPr>
        <p:spPr>
          <a:xfrm>
            <a:off x="304920" y="1219320"/>
            <a:ext cx="5254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¿Cómo está usted?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19:34:42Z</dcterms:created>
  <dc:creator>Lauren Mooney</dc:creator>
  <dc:description/>
  <dc:language>en-US</dc:language>
  <cp:lastModifiedBy>Lauren Mooney</cp:lastModifiedBy>
  <dcterms:modified xsi:type="dcterms:W3CDTF">2009-09-18T15:18:11Z</dcterms:modified>
  <cp:revision>1</cp:revision>
  <dc:subject/>
  <dc:title>Los saludos y las expresiones de cortesía</dc:title>
</cp:coreProperties>
</file>